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97114"/>
        <c:axId val="97896732"/>
      </c:barChart>
      <c:catAx>
        <c:axId val="133971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96732"/>
        <c:crosses val="autoZero"/>
        <c:auto val="1"/>
        <c:lblAlgn val="ctr"/>
        <c:lblOffset val="100"/>
        <c:noMultiLvlLbl val="0"/>
      </c:catAx>
      <c:valAx>
        <c:axId val="97896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971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184A-E20F-4E89-815B-8C7F2F4E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4820-6FF3-422C-95B0-0578DC14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71D-6692-4CC6-9E84-F96CBDE2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B7D-52CE-4E10-87D5-EB36F1CA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63C3-23C6-43A2-9AF1-B075DE21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17C-CF91-4180-AB4E-10D31504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228-3993-42EE-B0EE-F6E2E18A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F738-CCD0-490F-8EF8-078CE640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C42-0E3B-4079-9DFC-281A6313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BB4-6B97-4A3B-B069-469B306E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D7D1-C5D9-42E7-B4D3-723376F1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D21-64BE-4025-8671-B2CEB95F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FAC05-FB9D-4C48-8CBB-B448B126F3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