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40119"/>
        <c:axId val="96566186"/>
      </c:barChart>
      <c:catAx>
        <c:axId val="15440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66186"/>
        <c:crosses val="autoZero"/>
        <c:auto val="1"/>
        <c:lblAlgn val="ctr"/>
        <c:lblOffset val="100"/>
        <c:noMultiLvlLbl val="0"/>
      </c:catAx>
      <c:valAx>
        <c:axId val="96566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40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55A-AEDA-4CDC-A575-D28A4AC9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207-B000-437C-A745-B7F2B48D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388-3219-473F-B6DE-D010DCE1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4FE-3228-4EAA-BE6C-C9E91185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747-23E0-4664-AE3E-6C1A4366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47E-F586-4117-969A-507B0DAB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1A5-6876-4386-BD59-BF720D74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0E8-5137-4565-AC11-1D9D243A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395-C727-4FDA-80BA-D206A2AD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E62-AE85-47B1-A073-19836F03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89D-71CF-42ED-9C6B-3BA1A93C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F70-878F-41D6-BF2C-33471294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38112-EAF5-44C0-9731-356B6CDAA1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