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80664"/>
        <c:axId val="81463992"/>
      </c:barChart>
      <c:catAx>
        <c:axId val="10180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63992"/>
        <c:crosses val="autoZero"/>
        <c:auto val="1"/>
        <c:lblAlgn val="ctr"/>
        <c:lblOffset val="100"/>
        <c:noMultiLvlLbl val="0"/>
      </c:catAx>
      <c:valAx>
        <c:axId val="81463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80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36C-F183-4FBF-90AC-C5362AA4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A46-7B57-4553-8A1B-26175AE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778-4816-4518-9892-F032E2AA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F0B-7082-4E9B-8004-EBE9808A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D97-1ABD-40DD-8847-30FA8D6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897-29E4-4536-88F5-D1B4180F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356-F7D6-4750-8764-EF29A10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4FC-2B5C-494D-8879-860A10B0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D5E-0C5D-4D5A-BEAE-DD039360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486-E106-4A02-9577-828D611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51E-CA29-48C9-9097-E757B553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F03-4D8C-4135-BB58-D167DC76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7D86B-497E-4F24-88C8-414E3FBFDC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