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1559"/>
        <c:axId val="54855492"/>
      </c:barChart>
      <c:catAx>
        <c:axId val="4801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55492"/>
        <c:crosses val="autoZero"/>
        <c:auto val="1"/>
        <c:lblAlgn val="ctr"/>
        <c:lblOffset val="100"/>
        <c:noMultiLvlLbl val="0"/>
      </c:catAx>
      <c:valAx>
        <c:axId val="54855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6AD-2A12-4BC3-820A-713A6F66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EA0-E36F-468D-9ACA-A4B0B64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241-475A-40B1-A57B-79269626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3C3-6152-4165-90DA-588CF953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701-A262-4FF1-85F8-3A828E49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CF6-731A-4F02-86FA-DAD1722B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9D5-2257-4BF4-9607-D901EF3A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C43-2F70-4F6F-9FA7-0B1F3A2C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980-9F59-43EA-A191-04A4DE98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D47-79D8-43D1-8965-F4253B1C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520-3CAA-45ED-BF30-A6C55759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190-965F-4423-9612-9DD99DF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53C2-3316-40D2-A61D-FA1EA89A1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