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792034"/>
        <c:axId val="72487211"/>
      </c:barChart>
      <c:catAx>
        <c:axId val="487920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487211"/>
        <c:crosses val="autoZero"/>
        <c:auto val="1"/>
        <c:lblAlgn val="ctr"/>
        <c:lblOffset val="100"/>
        <c:noMultiLvlLbl val="0"/>
      </c:catAx>
      <c:valAx>
        <c:axId val="724872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7920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9137-B3EC-4DA9-B559-C162F9424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1E66-3633-4750-A339-2C6A5FB8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25B6-22F4-4764-9285-99D5A18DF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C345-019B-4E05-806E-020207F1B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82E7-9333-42BB-AB89-47DEF54C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9D57-DF6C-4A62-AC07-27D4B0E5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B054-0C31-43A0-B725-148CFF77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B676-78E1-4BE0-A035-B9303B23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BDDC-5BE1-4EC5-BD66-90F3CCC6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5082-5EE0-49BF-8282-25ABFDDA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ABF9-A559-41DF-AFD1-06DB5AFA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B057-8048-41A4-805E-4D41C2B4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A261C-FA69-42E1-9565-794C806D8E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