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38466"/>
        <c:axId val="18709743"/>
      </c:barChart>
      <c:catAx>
        <c:axId val="20438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9743"/>
        <c:crosses val="autoZero"/>
        <c:auto val="1"/>
        <c:lblAlgn val="ctr"/>
        <c:lblOffset val="100"/>
        <c:noMultiLvlLbl val="0"/>
      </c:catAx>
      <c:valAx>
        <c:axId val="18709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8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B54-F02D-4954-B212-188D602A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69F-E863-4092-AB10-6D75249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C05-6C0C-4C5C-BB5F-8F97F768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B75-C731-4DA4-9077-66F7B58A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1F1-92FF-4ED8-BF30-427ADF6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F10-2F02-479C-BCE8-43B67B37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562-3F57-4C39-B698-B7A6A5B4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C35-CEC5-46EE-A145-1B12079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352-7101-4594-B274-1C0F0D3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EAA-1947-4692-9DD4-71C29A2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7D9-5E0A-4DBF-9C6A-149B303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589-F6FA-4ECD-9950-11D2DDA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C698A-AA13-4C74-A89D-F85B3233D5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