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771583"/>
        <c:axId val="34965272"/>
      </c:barChart>
      <c:catAx>
        <c:axId val="547715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65272"/>
        <c:crosses val="autoZero"/>
        <c:auto val="1"/>
        <c:lblAlgn val="ctr"/>
        <c:lblOffset val="100"/>
        <c:noMultiLvlLbl val="0"/>
      </c:catAx>
      <c:valAx>
        <c:axId val="349652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715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2E6E-79CF-4386-BAE8-16B5C9BD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9FC8-7B31-4CEE-AEBC-9492559C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81F6-C583-4EF1-B724-C269B384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AE14-4FDD-4827-8214-84B1D36EB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6FBD-045F-4FDF-9C86-81E64DB3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F086-3C37-40C3-B18E-30AFBD6B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FEC4-8EB5-4833-BF61-48D6CE4C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1A46-CAD4-4903-91D3-346D4E6A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2F1D-2D58-42A9-909F-DBAA0386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6E18-9FCC-48BA-990F-78286F66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7D7F-50AB-467A-85CF-2E76CFAA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021F-0AE9-48F4-8809-77275544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4A2F7-A0A7-473C-B477-6CA5E29CB3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