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25654"/>
        <c:axId val="65310993"/>
      </c:barChart>
      <c:catAx>
        <c:axId val="82025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10993"/>
        <c:crosses val="autoZero"/>
        <c:auto val="1"/>
        <c:lblAlgn val="ctr"/>
        <c:lblOffset val="100"/>
        <c:noMultiLvlLbl val="0"/>
      </c:catAx>
      <c:valAx>
        <c:axId val="65310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5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871-DDDE-4B3B-B1F3-5CE7EC64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173-49F1-4228-98FB-735E160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C43-4E6D-4EBA-9EC0-DD83925E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BC5-1692-4538-A5E3-F1546AAF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B5F-D2E5-4CAB-B035-9CD0B25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3B6-C8E0-4931-A82B-F49E50DA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D1D-75FF-49F7-AAD6-1E7EA21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64C-0AC8-4E0C-9D38-B02D1E0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06C-931F-45FA-A1B6-E8D2A51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A10-BC1E-43D8-A0B3-47B2433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690-B715-4993-8D76-E5152E9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30C-D91F-451F-A85F-31D6AFA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7CEAC-CBE1-4CD6-815B-912B816D3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